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929-EC8B-4621-9F80-BB7BB473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569-0BF3-443D-9673-8ED79DA1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CCA-F34B-4313-BB39-C2B0339E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B15-B2E1-4C9C-B138-3C9BDBA5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88A-0DEB-4C23-883A-F231F3AF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4F9-57DC-48B3-A4CC-A9ECF594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118-5708-470E-A57B-756E2E3A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E98-0937-4836-AF7A-6E86DCC0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6A0-056F-4143-B54E-C0C76676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E74-0FCE-42A5-8919-A9A5ECA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6DC-0D03-4CD5-9CB9-B0925FA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300-14A3-4F8E-A4DC-82566887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66cc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9EE8-4B2A-449B-8C8A-4ED4FA2954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lict and Consensus in the American Revol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mund S. M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ents Leading to Revolution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nists knew that them owning their own land to bid defiance of traditionally controlled society through controls of 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gland failed to recognize these two powers (see people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servatis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ese arguments today seem ludicrous, it is because conservatism in the United States has often been reduced to the ludicrous by the national commitment to equal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onservatism based on a more congenial premise can make little head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ericans and people without black skin had two sources of p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land gave them political and economic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guns gave them fire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people owned land they lived on and had a large number of gu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cial status counted for more than senior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axation by Parlia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at to power that enabled them to the right to direct their own li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nsus enabled the colonies to unite against Parliamentary tax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smen failed to recognized America’s existence and of their po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ank you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or watching our slide show !!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esented By: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indy Pierre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hley Lockwood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elinda O’Bier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Johnny Thompson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bby Donvan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cial Mobi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erican Revolution increased social mobil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reasing and decreasing in social r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ss conflict was muted during the revolutionary period by social mobility among whi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pulation increased so rapidly it could not be controlled by the mother count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cial conflicts arose from over crowd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lavery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adical consensus … was shaken but not broken by the Revolution.” - Morg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ccffff"/>
              </a:buClr>
              <a:buFont typeface="Arial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flict between the East and We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erican Revolution – settlers in a new land against its government that could not properly tend to their needs because of location and com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xation without Re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al conflict between northern and southern colonies by enslavement of blacks and loyalis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04:39:23Z</dcterms:created>
  <dc:creator>charles st louis</dc:creator>
  <dc:description/>
  <dc:language>en-US</dc:language>
  <cp:lastModifiedBy>Jenkins, Mark</cp:lastModifiedBy>
  <dcterms:modified xsi:type="dcterms:W3CDTF">2012-02-07T16:03:25Z</dcterms:modified>
  <cp:revision>3</cp:revision>
  <dc:subject/>
  <dc:title>Conflict and Consensus in the American Revolution</dc:title>
</cp:coreProperties>
</file>